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F27-960A-4904-AEA1-A1A3A015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264-C1E0-4531-A1B6-0B9AB2D0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0219-14ED-4A34-BCB1-CEB0CF3A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4D5-72EB-47B4-9F61-058FB061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141-9CC5-42CC-BB58-327755CF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FFBB-E173-4583-9155-7CADEAD3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D21-2247-45F9-B96E-38710A26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E9DA-A27A-484B-AFA4-7799539B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456-5C9F-48AE-9B3A-4A351912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60C-A63F-4761-8A97-763B584A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C5D-E1E5-40FE-9957-31B0D884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A1FB-4791-4C98-9212-31CE9B95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5B93-8410-411C-AA3E-4B4018BA7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2400" y="279360"/>
            <a:ext cx="8899200" cy="630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2:59:10Z</dcterms:created>
  <dc:creator>Guillermo</dc:creator>
  <dc:description/>
  <dc:language>en-US</dc:language>
  <cp:lastModifiedBy>Guillermo</cp:lastModifiedBy>
  <dcterms:modified xsi:type="dcterms:W3CDTF">2012-04-09T13:00:02Z</dcterms:modified>
  <cp:revision>1</cp:revision>
  <dc:subject/>
  <dc:title>Presentación de PowerPoint</dc:title>
</cp:coreProperties>
</file>